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67280" y="6477120"/>
            <a:ext cx="3200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9. August 2001, Seite </a:t>
            </a:r>
            <a:fld id="{AF6EEAFA-BBAE-4C3B-9746-DAE39A853C44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von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320" y="64771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Lucida Sans Unicode"/>
              </a:rPr>
              <a:t>Holm Sieber &lt;sieber@prudsys.com&gt;: fli4l the on(e)-disk-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Lucida Console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Lucida Console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Lucida Console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Lucida Console"/>
              </a:rPr>
              <a:t>fli4l – the on(e)-disk-router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62120" y="5638680"/>
            <a:ext cx="761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Holm Sieber &lt;sieber@prudsys.com&gt;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81" name="logo_cube_arcade" descr=""/>
          <p:cNvPicPr/>
          <p:nvPr/>
        </p:nvPicPr>
        <p:blipFill>
          <a:blip r:embed="rId1"/>
          <a:stretch/>
        </p:blipFill>
        <p:spPr>
          <a:xfrm>
            <a:off x="2085840" y="1295280"/>
            <a:ext cx="49723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Ethernet- und DSL-Support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Lucida Console"/>
              </a:rPr>
              <a:t>Ethernet-Support: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aktuelle Netzwerkkartentreiber: Unterstützung von über 40 Kartenfamilien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Lucida Console"/>
              </a:rPr>
              <a:t>DSL-Support: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Roaring Penguin PPPoE-Treiber, mit Dial-on-Demand (abschaltbar)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PPTP für DSL-Anbindungen in Österreich (EXPRIMENTAL).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Optionale Pakete (Auswahl)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DNS-Server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DHCP-Server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Online-/Offline-Anzeige über LED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serielle Console als Option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IPSEC-Module ipsec und pptp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Druckerserver (Samba) über SMB- und lpr/lpd-Protokoll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Zugriff auf Time-Server zur Synchronisierung der Uhrzeit im Netz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Ausführen von Kommandos/Prozeduren bei Telefonanruf (z.B. Internet-Einwahl).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Konfiguration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914400"/>
            <a:ext cx="77724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#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# General setting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#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HOSTNAME='momo'                 # name of fli4l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PASSWORD='XXXXXXXX'             # password for telnetd, ftpd, sshd, and sam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MOUNT_BOOT='rw'                 # mount boot device (floppy): ro, rw, 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RAMSIZE='4096'                  # size of ramdisk for unzipped opt.tg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MOUNT_OPT='ro'                  # mount opt device: ro, r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PART_OPT='ram2'                 # location of opt-files? ram2 or disk-par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UPDATE_MODE='full'              # add, cfg, full, none, see docu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#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# Ethernet card driver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# uncomment your ethernet 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#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ETH_DRV_N='1'                   # number of ethernet drivers to load, usuall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#ETH_DRV_1='3c505'              # 3COM Etherlink Plus (3c5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ETH_DRV_1='8390 ne2k-pci'       # NE2000 PCI clone (Realtek 8019/802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#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# Ether networks used with IP protoco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#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IP_ETH_N='1'                        # number of ip ethernet networks, usuall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IP_ETH_1_NAME=''                    # optional: other device name than eth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IP_ETH_1_IPADDR='192.168.42.1'      # IP address of your n'th ethernet 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IP_ETH_1_NETWORK='192.168.42.0'     # network of your 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IP_ETH_1_NETMASK='255.255.255.0'    # netmask of your 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#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# Additional routes, op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#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IP_DEFAULT_GATEWAY=''               # normally not used, read documentatio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IP_ROUTE_N='0'                      # number of additional rou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IP_ROUTE_1='192.168.7.0 255.255.255.0 192.168.6.99' # network netmask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Lucida Console"/>
              </a:rPr>
              <a:t>Least-Cost-Routing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beliebig viele Provider,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tundengenaue Steuerung.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106" name="imonc-timetable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49528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Lucida Console"/>
              </a:rPr>
              <a:t>Windows-Client imonc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nzeige des aktuellen Verbindungsstatus,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Client zur Steuerung aller Funktionen des Servers: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nline/Offline-Schalten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uswahl des Providers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Upload einer neuen Konfiguration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Lucida Console"/>
              </a:rPr>
              <a:t>Screenshot imonc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110" name="imonc-online1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5749920" cy="3543480"/>
          </a:xfrm>
          <a:prstGeom prst="rect">
            <a:avLst/>
          </a:prstGeom>
          <a:ln w="0">
            <a:noFill/>
          </a:ln>
        </p:spPr>
      </p:pic>
      <p:pic>
        <p:nvPicPr>
          <p:cNvPr id="111" name="online-graph-1" descr=""/>
          <p:cNvPicPr/>
          <p:nvPr/>
        </p:nvPicPr>
        <p:blipFill>
          <a:blip r:embed="rId2"/>
          <a:stretch/>
        </p:blipFill>
        <p:spPr>
          <a:xfrm>
            <a:off x="6934320" y="4952880"/>
            <a:ext cx="155412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fli4l und Modems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Unterstützung über optionales Paket MODEM,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unterstützt Dial-on-demand,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imonc wird nicht unterstützt!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Lucida Console"/>
              </a:rPr>
              <a:t>Weitere Ein-Disk-Router-Projekte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Suchen unter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www.freshmeat.net,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Suchtext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„linux router“,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Beispiele: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Floppy ISDN/DSL for Linux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Linux Router Project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http://www.linuxrouter.org.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Und nun die Demonstration ...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Historie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ch ziehe um und bekomme ISDN.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Gesucht: einfacher Internetzugang für meine Freundin und mich.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1. Versuch: S.u.S.E. 7.2 Standardinstallation auf einem eigenen Rechner.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Circa 150 MB später geht es nicht richtig.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n der c‘t wird fli4l vorgestellt!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Forderungen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ISDN-Router, der einfach nur geht,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Steuerung von Windows aus,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Unterstützung mehrerer Provider,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möglichst DHCP-Server,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möglichst Proxy-Server.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Und keine aufwändige Installation!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Lösung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7" name=""/>
          <p:cNvSpPr/>
          <p:nvPr/>
        </p:nvSpPr>
        <p:spPr>
          <a:xfrm>
            <a:off x="704880" y="16765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Sans Unicode"/>
              </a:rPr>
              <a:t>http://www.fli4l.d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</a:rPr>
              <a:t>fli4l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</a:rPr>
              <a:t> ist ein Linux-basierender ISDN-, DSL- und Ethernet-Router, der lediglich 1 Diskette zum Arbeiten benötigt. Ein 486er mit 16MB RAM ist dafür vollkommen ausreich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Lucida Sans Unicode"/>
              </a:rPr>
              <a:t>Die notwendige Bootdiskette kann unter Unix, Linux oder Windows erstellt werden. Dabei sind keine Linux-Kenntnisse erforderlich, aber evtl. nützli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Lucida Sans Unicode"/>
              </a:rPr>
              <a:t>Grundkenntnisse von Netzwerken, TCP/IP, DNS und Routing sollten jedoch vorhanden sein. Für eigene Erweiterungen/Entwicklungen, welche über die Standardkonfiguration hinausgehen, sind ein lauffähiges Linux-System und Unix/Linux-Kenntnisse notwendig.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Hardwarevoraussetzungen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ISDN: 386er CPU ab 25 MHz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DSL: 486er CPU ab DX2/66, 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12 MB Speicher, besser 16 MB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Ethernet-Netzwerkkarte (Unterstützung von 40 verschiedenen Typen-Familien)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ISDN: HiSax unterstützte ISDN-Karte (Typ 1-37) oder AVM-B1 ISA/PCI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ein Diskettenlaufwerk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eine Diskette.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Features (1)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Erstellen der Boot-Diskette unter Unix, Linux und Windows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Unterstützung von IP-Masquerading und Port-Forwarding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Least-Cost-Routing: automatische Auswahl des Providers, je nach Uhrzeit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Anzeige/Berechnung/Protokollierung von Verbindungszeiten und –kosten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Windows/Unix/Linux-Client imonc mit Schnittstelle zu imond und telmond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Upload von neuen Konfigurationsdateien über Windows-Client imonc.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Features (2)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Bootdiskette mit vfat-Dateisystem zum dauerhaften Speichern von Dateien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Unterstützung von 1680KB-Disketten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Unterstützung von Flash-Cards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Firewall: Logging bei Zugriff von außen auf gesperrte Ports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Betrieb/Routing von ISDN- und DSL-Circuits parallel möglich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Ansteuerung von LCD-Displays.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Lucida Console"/>
              </a:rPr>
              <a:t>Router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Linux-Kernel 2.2.16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Firewall und IP-Masquerading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DNS-Server, damit nicht jede Anfrage von Windows-PCs in's WAN geht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Netzwerkfähiger imond-Server mit Monitor-/und LCR-Steuerfunktionen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Netzwerkfähiger telmond-Server zur Ausgabe von eingehenden Telefonanrufen.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ISDN-Support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aktuelle HiSaX-Treiber: Unterstützung von 37 ISDN-Kartentypen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mehrere ISDN-Verbindungsmöglichkeiten: in/out/callback, raw-ip/ppp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Kanalbündelung: automatische Bandbreitenanpassung oder manuelle Zuschaltung des 2. Kanals über Windows-/Unix-Client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optionales IPX-Routing,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Fritz-Card 2.0 noch nicht unterstützt!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24:17Z</dcterms:created>
  <dc:creator>Administrator</dc:creator>
  <dc:description/>
  <dc:language>en-US</dc:language>
  <cp:lastModifiedBy>Administrator</cp:lastModifiedBy>
  <dcterms:modified xsi:type="dcterms:W3CDTF">2001-08-10T16:22:35Z</dcterms:modified>
  <cp:revision>4</cp:revision>
  <dc:subject/>
  <dc:title>fli4l – the on(e)-disk-router</dc:title>
</cp:coreProperties>
</file>